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3F80-1F6D-4E6F-8AB0-A18A55D4F0F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7368-4C72-40BA-8B14-F91D15DD04D2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FF9F-C428-454F-806E-2297F0D73474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B98E-98F4-4C37-9794-2BCC050C14B4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C4CE-4E00-4E34-9832-1DC9B6E84FBB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8C82-EF67-45A9-A794-1BC17E9D3884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C01D-02BA-46F6-9317-CF7EBDF3A19C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30E3-71DD-43E5-AA3D-CD1D7612DE8A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30B1-8994-4588-AAF6-F7491F7B1B32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C0C4-5200-4E9F-839F-01865EBA31A7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F3B0-176D-4CB5-B8B6-87BB5BF5B99C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578-EC5E-495F-BD05-1D0A3205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616-337F-4ABF-B936-B9DD7163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EDD-A563-4B1C-B2C1-209127D5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C7E-6477-4B2E-A784-C5428613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F937-AFE6-4400-A78E-412891B5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E191-2B64-4D5A-8107-1C68F0D4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F1DB-747E-4A07-91CA-D3544C40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B04A-98AE-4D4B-A39E-70BCDDA2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448E-39AE-4019-9865-FBB9E337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0D3F-2D44-42EF-A2CA-7F4E2C5A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684E-E1FC-43C2-8DBC-C7AD0FC6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A60-C193-4B68-BC74-63C354E2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B834-55DF-498B-9F86-19ADC813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57FA-50A9-4C56-A2A4-11980E1B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1DAE-C117-4264-A6B5-F503FDD0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B472-4281-4AA3-9B14-27A0915F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F672-4ABB-460E-AF4C-A40C128A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C00D6-110B-40FB-8F6E-5A0D031A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8D4C4-64B9-414E-B766-C78EDECD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07AAA-7249-4047-9841-5463059F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0D12-0DB1-48A2-9AF4-5201B1DD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68240-6AC7-41F5-BBEA-C13E3E76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F7A-D1C6-4D3C-8FB1-8F7F37D0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BA4F-E205-4B05-BE44-51840E1E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5F8BA-6C17-4762-B329-29E0AEE8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D3864-4E98-4621-A2F6-E2F07B5B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4664B-0387-45CD-86A1-A22B3F5F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D987-4789-45C0-AF71-B586E6F9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09746-2691-4CC4-9179-C8036217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49182-5817-464A-B616-5DF48285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EEC09-F5A9-4981-A216-0445F7A4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657B1-53B9-4AA5-8A5C-FB096AC7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452B7-C033-4E89-B149-17FE22A1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F9C-1204-4FBE-A82D-05535BFB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DFAE7-E2AC-4CCF-B007-0C7A19F6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EE871-0F7C-48D1-8067-FBB7A2A1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FC779-5208-426E-9094-4CBCCAFB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FCAB0-2A9C-4E0C-BA9E-CD3FE59D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D3AAE-AFC6-4E68-B2A8-CC94505A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760AD-B811-4B84-87B8-CECE8D48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E0D97-8E81-470A-BC37-A1E8EBFE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27DBA-C0BB-4CDF-B8BA-9BB5DB46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48488-C7EE-4699-AC8D-B7AA29DB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10D44-8ED2-45A5-9316-E889AA53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B0C-1B5D-4762-A9BD-5A1BD8F0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991BD-1072-422F-8A88-37562A80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07D59-8380-4AE1-8A3A-DE62F0EE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B18E7-8AB5-4E8D-9556-F4BE4A16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52198-5A65-4434-BEE3-48D91A73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7BA2A-B321-49ED-A3B7-BCDC3181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686D8-C1FA-4630-B691-946CDBB8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7962D-9AD8-4B52-95D5-5E56BC28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0C10A-F3BC-4B3E-BC06-CB40F93D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33B51-553F-4C2A-8713-5FCE26B1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F8F77-5E41-4A96-A5F2-2E2B37A9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CE5-1055-4490-8BF3-17552988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C8676-726E-4799-AA3C-DFB8717D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5AC6C-636F-4A4A-AC29-5510D106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80D7A-5888-47B7-AFB4-2C9C0108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28B69-E42A-4D2E-AC01-7C4E5698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39650-787C-421B-84F5-4C574596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A75F1-81E6-471B-9674-CFBC0A24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3A94C-4B2E-4276-88D1-F2474AB5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95C87-8CF1-4638-9348-827F5B3B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DF994-37A1-4747-88D7-82850D96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527EB-7532-4CF8-9D72-EADA9C69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55A-ADA9-497F-9823-8C41A8DE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BDC42-D6D8-49E3-ACB5-B91206A7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7F8D6-CC1D-4EEE-BBB3-30606579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390E3-443B-4006-A566-A32E6DE5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B31-6501-41EB-992A-B90F2CE1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E527-449C-40DD-9111-35D6BCB4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57CC-88CE-4F5D-96F8-4AC66ECBB8B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9BB6-DD4F-41BE-BC50-6C9988E5952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C064-43CE-4A5D-B703-D00B2ED2BC23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ADCB-6AD8-4B30-A9BC-25713F08E1BA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6411-971B-43EF-AAD5-D4302032B2A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C7D6-89CF-4FB3-9938-D998AA065C6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988D-DD9B-4B65-9F92-00AD05918673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01E1-F99A-4C2F-B147-7DD2102A23F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tângulo 7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F823-E7A2-459C-AFCA-50F5D313905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CA5C-5CF5-4242-965E-3BC2E6E4A53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9682-3FF4-4743-BD2D-D26FCC06149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FE00-9949-421E-952C-F672DF3F42F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7029360"/>
            <a:ext cx="12187080" cy="71640"/>
          </a:xfrm>
          <a:prstGeom prst="rect">
            <a:avLst/>
          </a:prstGeom>
          <a:ln w="0">
            <a:noFill/>
          </a:ln>
        </p:spPr>
      </p:pic>
      <p:sp>
        <p:nvSpPr>
          <p:cNvPr id="261" name="Título 1"/>
          <p:cNvSpPr/>
          <p:nvPr/>
        </p:nvSpPr>
        <p:spPr>
          <a:xfrm>
            <a:off x="627120" y="1646280"/>
            <a:ext cx="109411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a8ef2"/>
                </a:solidFill>
                <a:latin typeface="Calibri"/>
              </a:rPr>
              <a:t>ANÁLISES PRELIMINARES – AEAT 20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42852"/>
                </a:solidFill>
                <a:latin typeface="Calibri"/>
              </a:rPr>
              <a:t>Brasília, setembro de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tângulo 1"/>
          <p:cNvSpPr/>
          <p:nvPr/>
        </p:nvSpPr>
        <p:spPr>
          <a:xfrm>
            <a:off x="407880" y="2048040"/>
            <a:ext cx="1137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rreção da queda no número de acidentes sem CAT em 2016 quando comparado com 2015 de 9,10% para 6,14%, número próximo à redução de contribuintes empreg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Queda de 7,25% das CATs de trajeto emitidas em 2017 quando comparadas com 2016, fenômeno não observado em outros 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982800" y="816120"/>
            <a:ext cx="103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NÁLISE PRELIMINAR D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tângulo 1"/>
          <p:cNvSpPr/>
          <p:nvPr/>
        </p:nvSpPr>
        <p:spPr>
          <a:xfrm>
            <a:off x="407880" y="1557360"/>
            <a:ext cx="1130472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cidentes de trajeto tiveram queda relevante em 2017 quando comparados com 2016, fenômeno antes não observ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abilização dos dados ocorrem normalmente no segundo ano após a ocorrência do evento, quando passam a ser mais fidedig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redução em menores proporções na taxa de incidência de acidentes de trabalho em 2016 e 2017 podem ser reflexo dos acidentes não registrados/reconhecidos em virtude da gr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982800" y="733320"/>
            <a:ext cx="1037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REFLEX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91" name="CaixaDeTexto 4"/>
          <p:cNvSpPr/>
          <p:nvPr/>
        </p:nvSpPr>
        <p:spPr>
          <a:xfrm>
            <a:off x="816120" y="692280"/>
            <a:ext cx="10656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BRIGA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ubtítulo 2"/>
          <p:cNvSpPr/>
          <p:nvPr/>
        </p:nvSpPr>
        <p:spPr>
          <a:xfrm>
            <a:off x="1295280" y="2276640"/>
            <a:ext cx="98884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70c0"/>
                </a:solidFill>
                <a:latin typeface="Calibri"/>
              </a:rPr>
              <a:t>ORION SÁVIO SANTOS DE OLIV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Analista Técnico de Políticas So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SRGPS/SPREV/M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orion.oliveira@previdencia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70c0"/>
                </a:solidFill>
                <a:latin typeface="Calibri"/>
              </a:rPr>
              <a:t>PAULO CÉSAR ANDRADE ALME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Coordenador-Geral do Seguro Contra Acidentes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CGSAT/SRGPS/SPREV/M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paulo.aalmeida@previdencia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70c0"/>
                </a:solidFill>
                <a:latin typeface="Calibri"/>
              </a:rPr>
              <a:t>EVANDRO CO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Coordenador-Geral de Monitoramento de Benefícios por Incapa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CGMBI/SRGPS/SPREV/M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evandro.cotta@previdencia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047600" y="868320"/>
            <a:ext cx="103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QUEM É PROTEGIDO PELO SEGURO CONTRA ACIDENTES DE TRABAL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aixaDeTexto 4"/>
          <p:cNvSpPr/>
          <p:nvPr/>
        </p:nvSpPr>
        <p:spPr>
          <a:xfrm>
            <a:off x="550800" y="2478240"/>
            <a:ext cx="1065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do Empregad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do Empregado Doméstic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uls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d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047600" y="620640"/>
            <a:ext cx="103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CIDENTES DE TRABALHO NO BRASIL – 2013 a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11160" y="1197000"/>
          <a:ext cx="10298160" cy="4608360"/>
        </p:xfrm>
        <a:graphic>
          <a:graphicData uri="http://schemas.openxmlformats.org/drawingml/2006/table">
            <a:tbl>
              <a:tblPr/>
              <a:tblGrid>
                <a:gridCol w="1222560"/>
                <a:gridCol w="4070160"/>
                <a:gridCol w="5005440"/>
              </a:tblGrid>
              <a:tr h="65880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cidentes de Trabalho - 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 Acidentes 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5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5f7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5.6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.3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8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657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2.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62% (GREVE)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5.6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9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9.4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1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</a:tbl>
          </a:graphicData>
        </a:graphic>
      </p:graphicFrame>
      <p:sp>
        <p:nvSpPr>
          <p:cNvPr id="266" name="CaixaDeTexto 2"/>
          <p:cNvSpPr/>
          <p:nvPr/>
        </p:nvSpPr>
        <p:spPr>
          <a:xfrm>
            <a:off x="911160" y="585792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A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aixaDeTexto 3"/>
          <p:cNvSpPr/>
          <p:nvPr/>
        </p:nvSpPr>
        <p:spPr>
          <a:xfrm>
            <a:off x="695160" y="6165720"/>
            <a:ext cx="11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*Greve dos administrativos de 07/07/2015 a 25/09/2015 e greve dos peritos médicos de 04/09/2015 a 25/01/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982800" y="733320"/>
            <a:ext cx="103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CONTRIBUINTES DA PREVID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911160" y="1341360"/>
          <a:ext cx="10369440" cy="4896000"/>
        </p:xfrm>
        <a:graphic>
          <a:graphicData uri="http://schemas.openxmlformats.org/drawingml/2006/table">
            <a:tbl>
              <a:tblPr/>
              <a:tblGrid>
                <a:gridCol w="619200"/>
                <a:gridCol w="2154240"/>
                <a:gridCol w="2531880"/>
                <a:gridCol w="2532240"/>
                <a:gridCol w="2531880"/>
              </a:tblGrid>
              <a:tr h="8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Nº de contribuintes da Previd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Nº de contribuintes empreg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837.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687.8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339.9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625.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635.0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3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656.1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4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52.0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624.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095.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250.2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6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</a:tbl>
          </a:graphicData>
        </a:graphic>
      </p:graphicFrame>
      <p:sp>
        <p:nvSpPr>
          <p:cNvPr id="270" name="CaixaDeTexto 3"/>
          <p:cNvSpPr/>
          <p:nvPr/>
        </p:nvSpPr>
        <p:spPr>
          <a:xfrm>
            <a:off x="695160" y="633096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nte: A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839880" y="804960"/>
            <a:ext cx="1037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VARIAÇÃO DA TAXA DE INCIDÊNCIA DE ACIDENTES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ixaDeTexto 3"/>
          <p:cNvSpPr/>
          <p:nvPr/>
        </p:nvSpPr>
        <p:spPr>
          <a:xfrm>
            <a:off x="192240" y="602136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nte: Infologo A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95200" y="1628640"/>
          <a:ext cx="11096640" cy="4440240"/>
        </p:xfrm>
        <a:graphic>
          <a:graphicData uri="http://schemas.openxmlformats.org/drawingml/2006/table">
            <a:tbl>
              <a:tblPr/>
              <a:tblGrid>
                <a:gridCol w="1359000"/>
                <a:gridCol w="4500360"/>
                <a:gridCol w="5237280"/>
              </a:tblGrid>
              <a:tr h="73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de Incidência de Acidentes de Trabalho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ção em relação ao ano a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8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,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,3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0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</a:tbl>
          </a:graphicData>
        </a:graphic>
      </p:graphicFrame>
      <p:sp>
        <p:nvSpPr>
          <p:cNvPr id="274" name="CaixaDeTexto 2"/>
          <p:cNvSpPr/>
          <p:nvPr/>
        </p:nvSpPr>
        <p:spPr>
          <a:xfrm>
            <a:off x="192240" y="6359400"/>
            <a:ext cx="1116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Número de novos casos de acidentes do trabalho registrados e não registrados /número médio anual de vínculos *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tângulo 1"/>
          <p:cNvSpPr/>
          <p:nvPr/>
        </p:nvSpPr>
        <p:spPr>
          <a:xfrm>
            <a:off x="334800" y="1712880"/>
            <a:ext cx="11161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ifica-se que o total de acidentes de trabalho em 2017, embora tenha sofrido redução no número absoluto, representa tendência compatível com os anos anteriores, em especial quando o dado é relativizado pelo número de segurados empreg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ouve atualização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os dados de 2016, refletindo nesse ano o resultado do que deixou de ser contabilizado em 2015 em virtude das greves no IN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982800" y="733320"/>
            <a:ext cx="103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NÁLISE PRELIMINAR D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aixaDeTexto 2"/>
          <p:cNvSpPr/>
          <p:nvPr/>
        </p:nvSpPr>
        <p:spPr>
          <a:xfrm>
            <a:off x="479520" y="5877000"/>
            <a:ext cx="1108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EAT 2017, quando publicado, apresenta os dados de 2017 e realiza correção/atualização dos dados de 2016, incorporando as informações que foram inseridas nos bancos de dados após a extração do AEAT 2016, quando então ocorre a estabilização da inform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982800" y="733320"/>
            <a:ext cx="1037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NÁLISE PRELIMINAR DOS D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aixaDeTexto 1"/>
          <p:cNvSpPr/>
          <p:nvPr/>
        </p:nvSpPr>
        <p:spPr>
          <a:xfrm>
            <a:off x="263520" y="1801800"/>
            <a:ext cx="1137744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nsiderando a redução do número de contribuintes empregados e a redução histórica no número de acidentes de trabalho, os dados relacionados a 2016 mostram-se coerentes com a série histó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982800" y="733320"/>
            <a:ext cx="103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CIDENTES DE TRABALHO POR TIPO – 2013 a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63520" y="1413000"/>
          <a:ext cx="11593440" cy="4608360"/>
        </p:xfrm>
        <a:graphic>
          <a:graphicData uri="http://schemas.openxmlformats.org/drawingml/2006/table">
            <a:tbl>
              <a:tblPr/>
              <a:tblGrid>
                <a:gridCol w="949320"/>
                <a:gridCol w="1414440"/>
                <a:gridCol w="1433520"/>
                <a:gridCol w="1282680"/>
                <a:gridCol w="1166760"/>
                <a:gridCol w="1292400"/>
                <a:gridCol w="1290600"/>
                <a:gridCol w="1433520"/>
                <a:gridCol w="1330200"/>
              </a:tblGrid>
              <a:tr h="503280">
                <a:tc gridSpan="7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 CAT registr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em CAT</a:t>
                      </a:r>
                      <a:r>
                        <a:rPr b="1" lang="pt-BR" sz="20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1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í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je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en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792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.3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.1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03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8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.2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.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,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03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5.6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,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7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,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5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6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2,5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04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.5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,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5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27</a:t>
                      </a:r>
                      <a:r>
                        <a:rPr b="0" lang="pt-B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,4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03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.2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6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,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0,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.7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,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</a:tbl>
          </a:graphicData>
        </a:graphic>
      </p:graphicFrame>
      <p:sp>
        <p:nvSpPr>
          <p:cNvPr id="282" name="CaixaDeTexto 3"/>
          <p:cNvSpPr/>
          <p:nvPr/>
        </p:nvSpPr>
        <p:spPr>
          <a:xfrm>
            <a:off x="192240" y="595008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A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ixaDeTexto 2"/>
          <p:cNvSpPr/>
          <p:nvPr/>
        </p:nvSpPr>
        <p:spPr>
          <a:xfrm>
            <a:off x="192240" y="6227640"/>
            <a:ext cx="1185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lui os acidentes identificados sem a emissão de CAT, por meio dos Nexos Técn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EAT 2016 constavam 12.502 CATs de doença para o 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tângulo 1"/>
          <p:cNvSpPr/>
          <p:nvPr/>
        </p:nvSpPr>
        <p:spPr>
          <a:xfrm>
            <a:off x="192240" y="1712880"/>
            <a:ext cx="1159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rreção do número de CATs de doenças do trabalho emitidas em 2016 fez com que a redução em relação ao ano de 2015 caísse de 18,74% para 9,48%. Tal fato pode indi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ificuldade na identificação do nexo entre a doença e o trabalho e consequente postergação na emissão da CA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CAT somente é emitida após o reconhecimento do nexo entre o agravo e o trabalho pelo IN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 CATs por doença sofreram redução elevada em 2017 (30,35%), quando comparadas com 2016, sem explicação específica (como ocorreu em 2016). É necessário aguardar as correções que ocorrerão em 2018 para identificar se há tendência de estabilização dos dados somente no segundo ano após a ocorrência do ev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982800" y="733320"/>
            <a:ext cx="103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NÁLISE PRELIMINAR D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8-09-24T19:17:35Z</cp:lastPrinted>
  <dcterms:modified xsi:type="dcterms:W3CDTF">2018-09-25T20:22:15Z</dcterms:modified>
  <cp:revision>618</cp:revision>
  <dc:subject/>
  <dc:title>Demografia</dc:title>
</cp:coreProperties>
</file>